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635739C-FD7C-45B8-AD6C-AD24ECD283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82880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0D88B5E6-ABB9-4438-B738-E4E73C20F01B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Rekursio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Funktsionaalne ja loogiline programmeerim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incredibly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blueprints: g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enes are very small when compared to 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contain copies of genes in huge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ow is it possi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02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07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274680" y="914400"/>
            <a:ext cx="8412120" cy="564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no recursion involved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 according to some meas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B! The “simplicity” measure may be arbitrarily comple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1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recu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1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bar which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2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2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8080" y="762120"/>
            <a:ext cx="78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2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re complex examp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3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3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4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49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90800" cy="429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38080" y="990720"/>
            <a:ext cx="7848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7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5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6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6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7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8080" y="990720"/>
            <a:ext cx="7848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7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8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Bitstream Vera Sans"/>
              </a:rPr>
              <a:t>Puhtad ja kombineeritud funktsionaalsed kee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kombineeri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funktsionaalses keeles -- Haskell, Hope, Miranda, FP -- ei ole programmeerijal peale funktsioonide defineerimise ja sisseehitatud baasfunktsioonide (aritmeetika, loendid jms) mingeid lisavahendeid -- kõik kõrvalefektid on keelatu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bineeritud funktsionaalsed keeled - ML, Lisp, Scheme -  kombineerivad puhaste funktsionaalsete keelte mehhanisme imperatiivsete mehhanismid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836640" y="365040"/>
            <a:ext cx="7767720" cy="308160"/>
            <a:chOff x="836640" y="365040"/>
            <a:chExt cx="7767720" cy="308160"/>
          </a:xfrm>
        </p:grpSpPr>
        <p:sp>
          <p:nvSpPr>
            <p:cNvPr id="189" name="Line 4"/>
            <p:cNvSpPr/>
            <p:nvPr/>
          </p:nvSpPr>
          <p:spPr>
            <a:xfrm>
              <a:off x="836640" y="66852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V="1">
              <a:off x="8604360" y="3650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838080" y="990720"/>
            <a:ext cx="7848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9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9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d kind - infinite loop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 car is a ca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(int x)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return fact(x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d kind – loop is (hopefully) termina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 "ancestor" is either a parent or an ancestor of a par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 (int x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f (x &lt;= 0) return 1;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lse return x * fact(x-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0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f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0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 ja muu puhtas lambda-arvut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leiutatud kodeerim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k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CC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 can be thought of as a function taking two natural numbers as arguments and returning a natural numb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LT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PLU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1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atoorne loog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l minimaalsem, kui lambda-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iven S and K, I itself is unnecessary, since it can be built from the other tw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 = S K 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S K K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S K 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lambda-termi saab lihtsalt teisendada kombinaatorit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1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eeritud keele näide: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838080" y="990720"/>
            <a:ext cx="7848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2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2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3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3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4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4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65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8080" y="990720"/>
            <a:ext cx="784872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5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6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70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7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84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90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96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2-11-26T09:34:31Z</dcterms:modified>
  <cp:revision>3</cp:revision>
  <dc:subject/>
  <dc:title>PowerPoint Presentation</dc:title>
</cp:coreProperties>
</file>